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1.wmf" ContentType="image/x-wmf"/>
  <Override PartName="/ppt/media/image14.wmf" ContentType="image/x-wmf"/>
  <Override PartName="/ppt/media/image22.png" ContentType="image/png"/>
  <Override PartName="/ppt/media/chimes.wav" ContentType="audio/x-wav"/>
  <Override PartName="/ppt/media/SKID1.WAV" ContentType="audio/x-wav"/>
  <Override PartName="/ppt/media/image21.png" ContentType="image/png"/>
  <Override PartName="/ppt/media/REMINDER.WAV" ContentType="audio/x-wav"/>
  <Override PartName="/ppt/media/image18.wmf" ContentType="image/x-wmf"/>
  <Override PartName="/ppt/media/%E7%9B%B8%E6%9C%BA.wav" ContentType="audio/x-wav"/>
  <Override PartName="/ppt/media/type.wav" ContentType="audio/x-wav"/>
  <Override PartName="/ppt/media/image17.wmf" ContentType="image/x-wmf"/>
  <Override PartName="/ppt/media/%E6%95%B2%E9%94%AE%E7%9B%98.wav" ContentType="audio/x-wav"/>
  <Override PartName="/ppt/media/800001.wav" ContentType="audio/x-wav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B87F-807A-42CF-A9A5-8A1DE4D442A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9AD9-D162-44A5-ACAD-9184345C8EA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收集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8AB-D3DF-4444-BF8E-56355928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8AB-36AC-4A54-9E67-D4CE1530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C33F-8E61-4905-A772-C5FC9BC1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ABC-11D8-4CE2-A88B-47A5C1C2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219-7FBC-4EEB-B1F8-E2C6C0B1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C46-0E2D-4D89-8212-05F91C45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EE1-A95C-4FF7-80A6-5B42660C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662A-68E4-4620-9D0F-50824220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D6CF-B1B2-44BD-B93A-42E71F14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8BCE-60E8-4F4D-A3E6-03703EA4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625F-D58C-4DFA-B1C7-ED3805F7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703-C2B9-4CD5-A589-46A45091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22D6-0069-4B58-B90C-622CD9F286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&#25970;&#38190;&#30424;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800001.wav"/><Relationship Id="rId9" Type="http://schemas.openxmlformats.org/officeDocument/2006/relationships/audio" Target="../media/&#30456;&#26426;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&#30456;&#26426;.wav"/><Relationship Id="rId3" Type="http://schemas.openxmlformats.org/officeDocument/2006/relationships/audio" Target="../media/REMINDER.WAV"/><Relationship Id="rId4" Type="http://schemas.openxmlformats.org/officeDocument/2006/relationships/audio" Target="../media/SKID1.WAV"/><Relationship Id="rId5" Type="http://schemas.openxmlformats.org/officeDocument/2006/relationships/audio" Target="../media/chimes.wav"/><Relationship Id="rId6" Type="http://schemas.openxmlformats.org/officeDocument/2006/relationships/audio" Target="../media/&#30456;&#26426;.wav"/><Relationship Id="rId7" Type="http://schemas.openxmlformats.org/officeDocument/2006/relationships/audio" Target="../media/REMINDER.WAV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6600"/>
                </a:solidFill>
                <a:latin typeface="Arial"/>
              </a:rPr>
              <a:t>探索规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908000" y="0"/>
            <a:ext cx="27766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51840" y="3875040"/>
            <a:ext cx="246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015.10.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我校餐厅内按下图方式摆放桌子和椅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2276280"/>
            <a:ext cx="1460160" cy="900000"/>
            <a:chOff x="0" y="2276280"/>
            <a:chExt cx="1460160" cy="900000"/>
          </a:xfrm>
        </p:grpSpPr>
        <p:sp>
          <p:nvSpPr>
            <p:cNvPr id="136" name=""/>
            <p:cNvSpPr/>
            <p:nvPr/>
          </p:nvSpPr>
          <p:spPr>
            <a:xfrm flipV="1" rot="16200000">
              <a:off x="327960" y="2324160"/>
              <a:ext cx="337320" cy="240840"/>
            </a:xfrm>
            <a:prstGeom prst="flowChartDelay">
              <a:avLst/>
            </a:prstGeom>
            <a:solidFill>
              <a:srgbClr val="bbe0e3"/>
            </a:solidFill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 rot="16200000">
              <a:off x="793800" y="2324160"/>
              <a:ext cx="337320" cy="240840"/>
            </a:xfrm>
            <a:prstGeom prst="flowChartDelay">
              <a:avLst/>
            </a:prstGeom>
            <a:solidFill>
              <a:srgbClr val="bbe0e3"/>
            </a:solidFill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0" y="2501640"/>
              <a:ext cx="1460160" cy="674640"/>
              <a:chOff x="0" y="2501640"/>
              <a:chExt cx="1460160" cy="674640"/>
            </a:xfrm>
          </p:grpSpPr>
          <p:sp>
            <p:nvSpPr>
              <p:cNvPr id="139" name=""/>
              <p:cNvSpPr/>
              <p:nvPr/>
            </p:nvSpPr>
            <p:spPr>
              <a:xfrm rot="5400000">
                <a:off x="327600" y="2887200"/>
                <a:ext cx="337320" cy="24084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23200" y="2597760"/>
                <a:ext cx="336960" cy="24120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5400000">
                <a:off x="777960" y="2886840"/>
                <a:ext cx="337320" cy="24120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0" y="2597760"/>
                <a:ext cx="336960" cy="24120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24640" y="2501640"/>
                <a:ext cx="1011240" cy="449640"/>
              </a:xfrm>
              <a:prstGeom prst="rect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1647720" y="2288880"/>
            <a:ext cx="2478960" cy="900000"/>
            <a:chOff x="1647720" y="2288880"/>
            <a:chExt cx="2478960" cy="900000"/>
          </a:xfrm>
        </p:grpSpPr>
        <p:grpSp>
          <p:nvGrpSpPr>
            <p:cNvPr id="145" name=""/>
            <p:cNvGrpSpPr/>
            <p:nvPr/>
          </p:nvGrpSpPr>
          <p:grpSpPr>
            <a:xfrm>
              <a:off x="1647720" y="2288880"/>
              <a:ext cx="1236960" cy="900000"/>
              <a:chOff x="1647720" y="2288880"/>
              <a:chExt cx="1236960" cy="900000"/>
            </a:xfrm>
          </p:grpSpPr>
          <p:sp>
            <p:nvSpPr>
              <p:cNvPr id="146" name=""/>
              <p:cNvSpPr/>
              <p:nvPr/>
            </p:nvSpPr>
            <p:spPr>
              <a:xfrm flipV="1" rot="16200000">
                <a:off x="1958400" y="2337120"/>
                <a:ext cx="338040" cy="24048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 rot="16200000">
                <a:off x="2425680" y="2337120"/>
                <a:ext cx="338040" cy="24048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5400000">
                <a:off x="1976760" y="2900160"/>
                <a:ext cx="336600" cy="24048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5400000">
                <a:off x="2409840" y="2882160"/>
                <a:ext cx="336600" cy="24192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1647720" y="2610000"/>
                <a:ext cx="337680" cy="24228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72720" y="2514240"/>
                <a:ext cx="1011960" cy="450000"/>
              </a:xfrm>
              <a:prstGeom prst="rect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889720" y="2288880"/>
              <a:ext cx="1236960" cy="900000"/>
              <a:chOff x="2889720" y="2288880"/>
              <a:chExt cx="1236960" cy="900000"/>
            </a:xfrm>
          </p:grpSpPr>
          <p:sp>
            <p:nvSpPr>
              <p:cNvPr id="153" name=""/>
              <p:cNvSpPr/>
              <p:nvPr/>
            </p:nvSpPr>
            <p:spPr>
              <a:xfrm flipH="1" flipV="1" rot="5400000">
                <a:off x="3477600" y="2337120"/>
                <a:ext cx="338040" cy="24048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 rot="5400000">
                <a:off x="3010320" y="2337120"/>
                <a:ext cx="338040" cy="24048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rot="16200000">
                <a:off x="3460680" y="2900160"/>
                <a:ext cx="336600" cy="24048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rot="16200000">
                <a:off x="3027600" y="2882160"/>
                <a:ext cx="336600" cy="24192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789000" y="2610000"/>
                <a:ext cx="337680" cy="24228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889360" y="2514240"/>
                <a:ext cx="1011960" cy="450000"/>
              </a:xfrm>
              <a:prstGeom prst="rect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4316040" y="2276280"/>
            <a:ext cx="3315240" cy="898200"/>
            <a:chOff x="4316040" y="2276280"/>
            <a:chExt cx="3315240" cy="898200"/>
          </a:xfrm>
        </p:grpSpPr>
        <p:grpSp>
          <p:nvGrpSpPr>
            <p:cNvPr id="160" name=""/>
            <p:cNvGrpSpPr/>
            <p:nvPr/>
          </p:nvGrpSpPr>
          <p:grpSpPr>
            <a:xfrm>
              <a:off x="4316040" y="2276280"/>
              <a:ext cx="1168200" cy="898200"/>
              <a:chOff x="4316040" y="2276280"/>
              <a:chExt cx="1168200" cy="898200"/>
            </a:xfrm>
          </p:grpSpPr>
          <p:sp>
            <p:nvSpPr>
              <p:cNvPr id="161" name=""/>
              <p:cNvSpPr/>
              <p:nvPr/>
            </p:nvSpPr>
            <p:spPr>
              <a:xfrm flipV="1" rot="16200000">
                <a:off x="4600440" y="2331000"/>
                <a:ext cx="337320" cy="22716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 rot="16200000">
                <a:off x="5041440" y="2331000"/>
                <a:ext cx="337320" cy="22716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400000">
                <a:off x="4617720" y="2892960"/>
                <a:ext cx="335880" cy="22716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5400000">
                <a:off x="5026320" y="2874960"/>
                <a:ext cx="335880" cy="22824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4315680" y="2596680"/>
                <a:ext cx="318600" cy="24156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501280"/>
                <a:ext cx="955440" cy="448920"/>
              </a:xfrm>
              <a:prstGeom prst="rect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5500080" y="2276280"/>
              <a:ext cx="1168200" cy="898200"/>
              <a:chOff x="5500080" y="2276280"/>
              <a:chExt cx="1168200" cy="898200"/>
            </a:xfrm>
          </p:grpSpPr>
          <p:sp>
            <p:nvSpPr>
              <p:cNvPr id="168" name=""/>
              <p:cNvSpPr/>
              <p:nvPr/>
            </p:nvSpPr>
            <p:spPr>
              <a:xfrm flipH="1" flipV="1" rot="5400000">
                <a:off x="6046200" y="2331000"/>
                <a:ext cx="337320" cy="22716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flipV="1" rot="5400000">
                <a:off x="5605200" y="2331000"/>
                <a:ext cx="337320" cy="22716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rot="16200000">
                <a:off x="6030360" y="2892960"/>
                <a:ext cx="335880" cy="22716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rot="16200000">
                <a:off x="5621760" y="2874960"/>
                <a:ext cx="335880" cy="22824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349680" y="2596680"/>
                <a:ext cx="318600" cy="24156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5500080" y="2501280"/>
                <a:ext cx="955440" cy="448920"/>
              </a:xfrm>
              <a:prstGeom prst="rect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463080" y="2276280"/>
              <a:ext cx="1168200" cy="898200"/>
              <a:chOff x="6463080" y="2276280"/>
              <a:chExt cx="1168200" cy="898200"/>
            </a:xfrm>
          </p:grpSpPr>
          <p:sp>
            <p:nvSpPr>
              <p:cNvPr id="175" name=""/>
              <p:cNvSpPr/>
              <p:nvPr/>
            </p:nvSpPr>
            <p:spPr>
              <a:xfrm flipH="1" flipV="1" rot="5400000">
                <a:off x="7009200" y="2331000"/>
                <a:ext cx="337320" cy="22716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 rot="5400000">
                <a:off x="6568200" y="2331000"/>
                <a:ext cx="337320" cy="22716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rot="16200000">
                <a:off x="6993360" y="2892960"/>
                <a:ext cx="335880" cy="22716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 rot="16200000">
                <a:off x="6584760" y="2874960"/>
                <a:ext cx="335880" cy="22824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312680" y="2596680"/>
                <a:ext cx="318600" cy="241560"/>
              </a:xfrm>
              <a:prstGeom prst="flowChartDelay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6463080" y="2501280"/>
                <a:ext cx="955440" cy="448920"/>
              </a:xfrm>
              <a:prstGeom prst="rect">
                <a:avLst/>
              </a:prstGeom>
              <a:solidFill>
                <a:srgbClr val="bbe0e3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81" name=""/>
          <p:cNvGraphicFramePr/>
          <p:nvPr/>
        </p:nvGraphicFramePr>
        <p:xfrm>
          <a:off x="395280" y="3357720"/>
          <a:ext cx="7540560" cy="1206360"/>
        </p:xfrm>
        <a:graphic>
          <a:graphicData uri="http://schemas.openxmlformats.org/drawingml/2006/table">
            <a:tbl>
              <a:tblPr/>
              <a:tblGrid>
                <a:gridCol w="1431720"/>
                <a:gridCol w="743040"/>
                <a:gridCol w="844560"/>
                <a:gridCol w="808200"/>
                <a:gridCol w="819000"/>
                <a:gridCol w="820800"/>
                <a:gridCol w="787320"/>
                <a:gridCol w="128592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桌子张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可坐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959120" y="38354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19640" y="3860640"/>
            <a:ext cx="8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94160" y="3848040"/>
            <a:ext cx="79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41680" y="386064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11520" y="3848040"/>
            <a:ext cx="8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732720" y="3860640"/>
            <a:ext cx="154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n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653000"/>
            <a:ext cx="968544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桌子的张数与可坐的人数之间有什么关系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5805360"/>
            <a:ext cx="88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如果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桌子，一共可以坐的人数如何表示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6156360"/>
            <a:ext cx="40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4n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5300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每增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张桌子，就增加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20000" y="3500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8080" y="2141640"/>
            <a:ext cx="1044360" cy="113328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46440" y="2166840"/>
            <a:ext cx="1031760" cy="11336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87560" y="2141640"/>
            <a:ext cx="1019160" cy="113328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84520" y="2146320"/>
            <a:ext cx="981360" cy="113328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91080" y="2103480"/>
            <a:ext cx="993960" cy="113328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56240" y="2128680"/>
            <a:ext cx="993960" cy="11336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18240" y="2421000"/>
            <a:ext cx="16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40440" y="3906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、用字母表示相关图形的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6%95%B2%E9%94%AE%E7%9B%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8000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E7%9B%B8%E6%9C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71440" y="5500800"/>
            <a:ext cx="432000" cy="433440"/>
          </a:xfrm>
          <a:prstGeom prst="rect">
            <a:avLst/>
          </a:prstGeom>
          <a:solidFill>
            <a:srgbClr val="f503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1057320" y="5010120"/>
            <a:ext cx="914400" cy="934560"/>
            <a:chOff x="1057320" y="5010120"/>
            <a:chExt cx="914400" cy="934560"/>
          </a:xfrm>
        </p:grpSpPr>
        <p:sp>
          <p:nvSpPr>
            <p:cNvPr id="203" name="Rectangle 4"/>
            <p:cNvSpPr/>
            <p:nvPr/>
          </p:nvSpPr>
          <p:spPr>
            <a:xfrm>
              <a:off x="1057320" y="5010120"/>
              <a:ext cx="431640" cy="430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5"/>
            <p:cNvSpPr/>
            <p:nvPr/>
          </p:nvSpPr>
          <p:spPr>
            <a:xfrm>
              <a:off x="1539720" y="5010120"/>
              <a:ext cx="432000" cy="430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1539720" y="5513760"/>
              <a:ext cx="432000" cy="430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"/>
            <p:cNvSpPr/>
            <p:nvPr/>
          </p:nvSpPr>
          <p:spPr>
            <a:xfrm>
              <a:off x="1057320" y="5513760"/>
              <a:ext cx="431640" cy="430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8"/>
          <p:cNvGrpSpPr/>
          <p:nvPr/>
        </p:nvGrpSpPr>
        <p:grpSpPr>
          <a:xfrm>
            <a:off x="4008600" y="4041720"/>
            <a:ext cx="1942560" cy="1953720"/>
            <a:chOff x="4008600" y="4041720"/>
            <a:chExt cx="1942560" cy="1953720"/>
          </a:xfrm>
        </p:grpSpPr>
        <p:sp>
          <p:nvSpPr>
            <p:cNvPr id="208" name="Rectangle 9"/>
            <p:cNvSpPr/>
            <p:nvPr/>
          </p:nvSpPr>
          <p:spPr>
            <a:xfrm>
              <a:off x="4019400" y="5543280"/>
              <a:ext cx="432000" cy="432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10"/>
            <p:cNvGrpSpPr/>
            <p:nvPr/>
          </p:nvGrpSpPr>
          <p:grpSpPr>
            <a:xfrm>
              <a:off x="4029120" y="5059080"/>
              <a:ext cx="914400" cy="936360"/>
              <a:chOff x="4029120" y="5059080"/>
              <a:chExt cx="914400" cy="936360"/>
            </a:xfrm>
          </p:grpSpPr>
          <p:sp>
            <p:nvSpPr>
              <p:cNvPr id="210" name="Rectangle 11"/>
              <p:cNvSpPr/>
              <p:nvPr/>
            </p:nvSpPr>
            <p:spPr>
              <a:xfrm>
                <a:off x="4029120" y="5059080"/>
                <a:ext cx="43164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2"/>
              <p:cNvSpPr/>
              <p:nvPr/>
            </p:nvSpPr>
            <p:spPr>
              <a:xfrm>
                <a:off x="4511520" y="5059080"/>
                <a:ext cx="43200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3"/>
              <p:cNvSpPr/>
              <p:nvPr/>
            </p:nvSpPr>
            <p:spPr>
              <a:xfrm>
                <a:off x="4511520" y="5563800"/>
                <a:ext cx="43200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14"/>
            <p:cNvGrpSpPr/>
            <p:nvPr/>
          </p:nvGrpSpPr>
          <p:grpSpPr>
            <a:xfrm>
              <a:off x="4008600" y="4041720"/>
              <a:ext cx="1942560" cy="1944720"/>
              <a:chOff x="4008600" y="4041720"/>
              <a:chExt cx="1942560" cy="1944720"/>
            </a:xfrm>
          </p:grpSpPr>
          <p:sp>
            <p:nvSpPr>
              <p:cNvPr id="214" name="Rectangle 15"/>
              <p:cNvSpPr/>
              <p:nvPr/>
            </p:nvSpPr>
            <p:spPr>
              <a:xfrm>
                <a:off x="4995720" y="4041720"/>
                <a:ext cx="43128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6"/>
              <p:cNvSpPr/>
              <p:nvPr/>
            </p:nvSpPr>
            <p:spPr>
              <a:xfrm>
                <a:off x="5499000" y="4041720"/>
                <a:ext cx="43128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7"/>
              <p:cNvSpPr/>
              <p:nvPr/>
            </p:nvSpPr>
            <p:spPr>
              <a:xfrm>
                <a:off x="5499000" y="4546440"/>
                <a:ext cx="43128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8"/>
              <p:cNvSpPr/>
              <p:nvPr/>
            </p:nvSpPr>
            <p:spPr>
              <a:xfrm>
                <a:off x="4511520" y="4041720"/>
                <a:ext cx="43128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9"/>
              <p:cNvSpPr/>
              <p:nvPr/>
            </p:nvSpPr>
            <p:spPr>
              <a:xfrm>
                <a:off x="5519520" y="5051160"/>
                <a:ext cx="431640" cy="432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20"/>
              <p:cNvSpPr/>
              <p:nvPr/>
            </p:nvSpPr>
            <p:spPr>
              <a:xfrm>
                <a:off x="4008600" y="4041720"/>
                <a:ext cx="43164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21"/>
              <p:cNvSpPr/>
              <p:nvPr/>
            </p:nvSpPr>
            <p:spPr>
              <a:xfrm>
                <a:off x="5519520" y="5554440"/>
                <a:ext cx="431640" cy="432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22"/>
            <p:cNvGrpSpPr/>
            <p:nvPr/>
          </p:nvGrpSpPr>
          <p:grpSpPr>
            <a:xfrm>
              <a:off x="4019400" y="4535280"/>
              <a:ext cx="1440000" cy="1441440"/>
              <a:chOff x="4019400" y="4535280"/>
              <a:chExt cx="1440000" cy="1441440"/>
            </a:xfrm>
          </p:grpSpPr>
          <p:sp>
            <p:nvSpPr>
              <p:cNvPr id="222" name="Rectangle 23"/>
              <p:cNvSpPr/>
              <p:nvPr/>
            </p:nvSpPr>
            <p:spPr>
              <a:xfrm>
                <a:off x="4503600" y="4535280"/>
                <a:ext cx="43200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24"/>
              <p:cNvSpPr/>
              <p:nvPr/>
            </p:nvSpPr>
            <p:spPr>
              <a:xfrm>
                <a:off x="5006880" y="4535280"/>
                <a:ext cx="43200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25"/>
              <p:cNvSpPr/>
              <p:nvPr/>
            </p:nvSpPr>
            <p:spPr>
              <a:xfrm>
                <a:off x="5006880" y="5040000"/>
                <a:ext cx="432000" cy="432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26"/>
              <p:cNvSpPr/>
              <p:nvPr/>
            </p:nvSpPr>
            <p:spPr>
              <a:xfrm>
                <a:off x="4019400" y="4535280"/>
                <a:ext cx="43200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27"/>
              <p:cNvSpPr/>
              <p:nvPr/>
            </p:nvSpPr>
            <p:spPr>
              <a:xfrm>
                <a:off x="5027760" y="5544720"/>
                <a:ext cx="431640" cy="432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Group 28"/>
          <p:cNvGrpSpPr/>
          <p:nvPr/>
        </p:nvGrpSpPr>
        <p:grpSpPr>
          <a:xfrm>
            <a:off x="6227640" y="3467160"/>
            <a:ext cx="2442960" cy="2447280"/>
            <a:chOff x="6227640" y="3467160"/>
            <a:chExt cx="2442960" cy="2447280"/>
          </a:xfrm>
        </p:grpSpPr>
        <p:sp>
          <p:nvSpPr>
            <p:cNvPr id="228" name="Rectangle 29"/>
            <p:cNvSpPr/>
            <p:nvPr/>
          </p:nvSpPr>
          <p:spPr>
            <a:xfrm>
              <a:off x="6246720" y="5462280"/>
              <a:ext cx="431640" cy="432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30"/>
            <p:cNvGrpSpPr/>
            <p:nvPr/>
          </p:nvGrpSpPr>
          <p:grpSpPr>
            <a:xfrm>
              <a:off x="6256080" y="4977720"/>
              <a:ext cx="914400" cy="936720"/>
              <a:chOff x="6256080" y="4977720"/>
              <a:chExt cx="914400" cy="936720"/>
            </a:xfrm>
          </p:grpSpPr>
          <p:sp>
            <p:nvSpPr>
              <p:cNvPr id="230" name="Rectangle 31"/>
              <p:cNvSpPr/>
              <p:nvPr/>
            </p:nvSpPr>
            <p:spPr>
              <a:xfrm>
                <a:off x="6256080" y="4977720"/>
                <a:ext cx="43164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32"/>
              <p:cNvSpPr/>
              <p:nvPr/>
            </p:nvSpPr>
            <p:spPr>
              <a:xfrm>
                <a:off x="6738480" y="4977720"/>
                <a:ext cx="43200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33"/>
              <p:cNvSpPr/>
              <p:nvPr/>
            </p:nvSpPr>
            <p:spPr>
              <a:xfrm>
                <a:off x="6738480" y="5482800"/>
                <a:ext cx="43200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34"/>
            <p:cNvGrpSpPr/>
            <p:nvPr/>
          </p:nvGrpSpPr>
          <p:grpSpPr>
            <a:xfrm>
              <a:off x="6235560" y="3959640"/>
              <a:ext cx="1943280" cy="1945080"/>
              <a:chOff x="6235560" y="3959640"/>
              <a:chExt cx="1943280" cy="1945080"/>
            </a:xfrm>
          </p:grpSpPr>
          <p:sp>
            <p:nvSpPr>
              <p:cNvPr id="234" name="Rectangle 35"/>
              <p:cNvSpPr/>
              <p:nvPr/>
            </p:nvSpPr>
            <p:spPr>
              <a:xfrm>
                <a:off x="7223040" y="3959640"/>
                <a:ext cx="43164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36"/>
              <p:cNvSpPr/>
              <p:nvPr/>
            </p:nvSpPr>
            <p:spPr>
              <a:xfrm>
                <a:off x="7726320" y="3959640"/>
                <a:ext cx="43164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37"/>
              <p:cNvSpPr/>
              <p:nvPr/>
            </p:nvSpPr>
            <p:spPr>
              <a:xfrm>
                <a:off x="7726320" y="4464360"/>
                <a:ext cx="43164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38"/>
              <p:cNvSpPr/>
              <p:nvPr/>
            </p:nvSpPr>
            <p:spPr>
              <a:xfrm>
                <a:off x="6738840" y="3959640"/>
                <a:ext cx="43164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39"/>
              <p:cNvSpPr/>
              <p:nvPr/>
            </p:nvSpPr>
            <p:spPr>
              <a:xfrm>
                <a:off x="7746840" y="4969440"/>
                <a:ext cx="432000" cy="432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40"/>
              <p:cNvSpPr/>
              <p:nvPr/>
            </p:nvSpPr>
            <p:spPr>
              <a:xfrm>
                <a:off x="6235560" y="3959640"/>
                <a:ext cx="43200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41"/>
              <p:cNvSpPr/>
              <p:nvPr/>
            </p:nvSpPr>
            <p:spPr>
              <a:xfrm>
                <a:off x="7746840" y="5472720"/>
                <a:ext cx="432000" cy="432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42"/>
            <p:cNvGrpSpPr/>
            <p:nvPr/>
          </p:nvGrpSpPr>
          <p:grpSpPr>
            <a:xfrm>
              <a:off x="6246720" y="4453560"/>
              <a:ext cx="1440000" cy="1441800"/>
              <a:chOff x="6246720" y="4453560"/>
              <a:chExt cx="1440000" cy="1441800"/>
            </a:xfrm>
          </p:grpSpPr>
          <p:sp>
            <p:nvSpPr>
              <p:cNvPr id="242" name="Rectangle 43"/>
              <p:cNvSpPr/>
              <p:nvPr/>
            </p:nvSpPr>
            <p:spPr>
              <a:xfrm>
                <a:off x="6730920" y="4453560"/>
                <a:ext cx="43200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44"/>
              <p:cNvSpPr/>
              <p:nvPr/>
            </p:nvSpPr>
            <p:spPr>
              <a:xfrm>
                <a:off x="7234200" y="4453560"/>
                <a:ext cx="43200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45"/>
              <p:cNvSpPr/>
              <p:nvPr/>
            </p:nvSpPr>
            <p:spPr>
              <a:xfrm>
                <a:off x="7234200" y="4958280"/>
                <a:ext cx="432000" cy="432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46"/>
              <p:cNvSpPr/>
              <p:nvPr/>
            </p:nvSpPr>
            <p:spPr>
              <a:xfrm>
                <a:off x="6246720" y="4453560"/>
                <a:ext cx="43200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47"/>
              <p:cNvSpPr/>
              <p:nvPr/>
            </p:nvSpPr>
            <p:spPr>
              <a:xfrm>
                <a:off x="7255080" y="5463360"/>
                <a:ext cx="431640" cy="432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48"/>
            <p:cNvGrpSpPr/>
            <p:nvPr/>
          </p:nvGrpSpPr>
          <p:grpSpPr>
            <a:xfrm>
              <a:off x="6227640" y="3467160"/>
              <a:ext cx="2442960" cy="2445840"/>
              <a:chOff x="6227640" y="3467160"/>
              <a:chExt cx="2442960" cy="2445840"/>
            </a:xfrm>
          </p:grpSpPr>
          <p:grpSp>
            <p:nvGrpSpPr>
              <p:cNvPr id="248" name="Group 49"/>
              <p:cNvGrpSpPr/>
              <p:nvPr/>
            </p:nvGrpSpPr>
            <p:grpSpPr>
              <a:xfrm>
                <a:off x="6727680" y="3467160"/>
                <a:ext cx="1942560" cy="1945440"/>
                <a:chOff x="6727680" y="3467160"/>
                <a:chExt cx="1942560" cy="1945440"/>
              </a:xfrm>
            </p:grpSpPr>
            <p:sp>
              <p:nvSpPr>
                <p:cNvPr id="249" name="Rectangle 50"/>
                <p:cNvSpPr/>
                <p:nvPr/>
              </p:nvSpPr>
              <p:spPr>
                <a:xfrm>
                  <a:off x="7714800" y="3467160"/>
                  <a:ext cx="431280" cy="4316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51"/>
                <p:cNvSpPr/>
                <p:nvPr/>
              </p:nvSpPr>
              <p:spPr>
                <a:xfrm>
                  <a:off x="8218080" y="3467160"/>
                  <a:ext cx="431280" cy="4316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52"/>
                <p:cNvSpPr/>
                <p:nvPr/>
              </p:nvSpPr>
              <p:spPr>
                <a:xfrm>
                  <a:off x="8218080" y="3971880"/>
                  <a:ext cx="431280" cy="4316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53"/>
                <p:cNvSpPr/>
                <p:nvPr/>
              </p:nvSpPr>
              <p:spPr>
                <a:xfrm>
                  <a:off x="7230600" y="3467160"/>
                  <a:ext cx="431280" cy="4316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54"/>
                <p:cNvSpPr/>
                <p:nvPr/>
              </p:nvSpPr>
              <p:spPr>
                <a:xfrm>
                  <a:off x="8238600" y="4476960"/>
                  <a:ext cx="431640" cy="4320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Rectangle 55"/>
                <p:cNvSpPr/>
                <p:nvPr/>
              </p:nvSpPr>
              <p:spPr>
                <a:xfrm>
                  <a:off x="6727680" y="3467160"/>
                  <a:ext cx="431640" cy="4316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56"/>
                <p:cNvSpPr/>
                <p:nvPr/>
              </p:nvSpPr>
              <p:spPr>
                <a:xfrm>
                  <a:off x="8238600" y="4980600"/>
                  <a:ext cx="431640" cy="4320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Rectangle 57"/>
              <p:cNvSpPr/>
              <p:nvPr/>
            </p:nvSpPr>
            <p:spPr>
              <a:xfrm>
                <a:off x="6227640" y="3467160"/>
                <a:ext cx="431640" cy="432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58"/>
              <p:cNvSpPr/>
              <p:nvPr/>
            </p:nvSpPr>
            <p:spPr>
              <a:xfrm>
                <a:off x="8238960" y="5481360"/>
                <a:ext cx="43164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Text Box 59"/>
          <p:cNvSpPr/>
          <p:nvPr/>
        </p:nvSpPr>
        <p:spPr>
          <a:xfrm>
            <a:off x="0" y="5915160"/>
            <a:ext cx="96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01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101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101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0"/>
          <p:cNvSpPr/>
          <p:nvPr/>
        </p:nvSpPr>
        <p:spPr>
          <a:xfrm>
            <a:off x="1125360" y="5923080"/>
            <a:ext cx="1070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01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101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101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1"/>
          <p:cNvGrpSpPr/>
          <p:nvPr/>
        </p:nvGrpSpPr>
        <p:grpSpPr>
          <a:xfrm>
            <a:off x="2352600" y="4522680"/>
            <a:ext cx="1440000" cy="1461600"/>
            <a:chOff x="2352600" y="4522680"/>
            <a:chExt cx="1440000" cy="1461600"/>
          </a:xfrm>
        </p:grpSpPr>
        <p:sp>
          <p:nvSpPr>
            <p:cNvPr id="261" name="Rectangle 62"/>
            <p:cNvSpPr/>
            <p:nvPr/>
          </p:nvSpPr>
          <p:spPr>
            <a:xfrm>
              <a:off x="2352600" y="5532120"/>
              <a:ext cx="432000" cy="432000"/>
            </a:xfrm>
            <a:prstGeom prst="rect">
              <a:avLst/>
            </a:prstGeom>
            <a:solidFill>
              <a:srgbClr val="f5032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63"/>
            <p:cNvGrpSpPr/>
            <p:nvPr/>
          </p:nvGrpSpPr>
          <p:grpSpPr>
            <a:xfrm>
              <a:off x="2362320" y="5047200"/>
              <a:ext cx="914400" cy="937080"/>
              <a:chOff x="2362320" y="5047200"/>
              <a:chExt cx="914400" cy="937080"/>
            </a:xfrm>
          </p:grpSpPr>
          <p:sp>
            <p:nvSpPr>
              <p:cNvPr id="263" name="Rectangle 64"/>
              <p:cNvSpPr/>
              <p:nvPr/>
            </p:nvSpPr>
            <p:spPr>
              <a:xfrm>
                <a:off x="2362320" y="5047200"/>
                <a:ext cx="431640" cy="432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65"/>
              <p:cNvSpPr/>
              <p:nvPr/>
            </p:nvSpPr>
            <p:spPr>
              <a:xfrm>
                <a:off x="2844720" y="5047200"/>
                <a:ext cx="432000" cy="432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66"/>
              <p:cNvSpPr/>
              <p:nvPr/>
            </p:nvSpPr>
            <p:spPr>
              <a:xfrm>
                <a:off x="2844720" y="5552280"/>
                <a:ext cx="432000" cy="432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67"/>
            <p:cNvGrpSpPr/>
            <p:nvPr/>
          </p:nvGrpSpPr>
          <p:grpSpPr>
            <a:xfrm>
              <a:off x="2352600" y="4522680"/>
              <a:ext cx="1440000" cy="1442520"/>
              <a:chOff x="2352600" y="4522680"/>
              <a:chExt cx="1440000" cy="1442520"/>
            </a:xfrm>
          </p:grpSpPr>
          <p:sp>
            <p:nvSpPr>
              <p:cNvPr id="267" name="Rectangle 68"/>
              <p:cNvSpPr/>
              <p:nvPr/>
            </p:nvSpPr>
            <p:spPr>
              <a:xfrm>
                <a:off x="2836800" y="4522680"/>
                <a:ext cx="432000" cy="432000"/>
              </a:xfrm>
              <a:prstGeom prst="rect">
                <a:avLst/>
              </a:prstGeom>
              <a:solidFill>
                <a:srgbClr val="f5032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69"/>
              <p:cNvSpPr/>
              <p:nvPr/>
            </p:nvSpPr>
            <p:spPr>
              <a:xfrm>
                <a:off x="3340080" y="4522680"/>
                <a:ext cx="432000" cy="432000"/>
              </a:xfrm>
              <a:prstGeom prst="rect">
                <a:avLst/>
              </a:prstGeom>
              <a:solidFill>
                <a:srgbClr val="f5032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70"/>
              <p:cNvSpPr/>
              <p:nvPr/>
            </p:nvSpPr>
            <p:spPr>
              <a:xfrm>
                <a:off x="3340080" y="5027760"/>
                <a:ext cx="432000" cy="432360"/>
              </a:xfrm>
              <a:prstGeom prst="rect">
                <a:avLst/>
              </a:prstGeom>
              <a:solidFill>
                <a:srgbClr val="f5032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71"/>
              <p:cNvSpPr/>
              <p:nvPr/>
            </p:nvSpPr>
            <p:spPr>
              <a:xfrm>
                <a:off x="2352600" y="4522680"/>
                <a:ext cx="432000" cy="432000"/>
              </a:xfrm>
              <a:prstGeom prst="rect">
                <a:avLst/>
              </a:prstGeom>
              <a:solidFill>
                <a:srgbClr val="f5032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72"/>
              <p:cNvSpPr/>
              <p:nvPr/>
            </p:nvSpPr>
            <p:spPr>
              <a:xfrm>
                <a:off x="3360960" y="5532840"/>
                <a:ext cx="431640" cy="432360"/>
              </a:xfrm>
              <a:prstGeom prst="rect">
                <a:avLst/>
              </a:prstGeom>
              <a:solidFill>
                <a:srgbClr val="f5032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Text Box 73"/>
          <p:cNvSpPr/>
          <p:nvPr/>
        </p:nvSpPr>
        <p:spPr>
          <a:xfrm>
            <a:off x="2692800" y="5942160"/>
            <a:ext cx="75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01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101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101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4"/>
          <p:cNvSpPr/>
          <p:nvPr/>
        </p:nvSpPr>
        <p:spPr>
          <a:xfrm>
            <a:off x="4572000" y="5942160"/>
            <a:ext cx="93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01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101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101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5"/>
          <p:cNvSpPr/>
          <p:nvPr/>
        </p:nvSpPr>
        <p:spPr>
          <a:xfrm>
            <a:off x="7093080" y="6056280"/>
            <a:ext cx="88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01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101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101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7"/>
          <p:cNvSpPr/>
          <p:nvPr/>
        </p:nvSpPr>
        <p:spPr>
          <a:xfrm>
            <a:off x="0" y="1268280"/>
            <a:ext cx="932508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、用同样大小的小正方形纸片，按照规定方式拼大正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个图形中有几个小正方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结合本次实验的规律，你能找到简单而又迅捷地计算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1+3+5+7+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  <a:ea typeface="Arial"/>
              </a:rPr>
              <a:t>…+997+999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  <a:ea typeface="Arial"/>
              </a:rPr>
              <a:t>的方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40440" y="3906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、用字母表示相关图形的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35840" y="1851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824360" cy="20559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796000" y="1773360"/>
            <a:ext cx="246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…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924280"/>
            <a:ext cx="947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你知道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堆有多少个小球吗？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堆呢？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n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堆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0760" y="3586320"/>
            <a:ext cx="166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20640"/>
            <a:ext cx="84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些小球按下面的方式堆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5360" y="5135400"/>
            <a:ext cx="891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堆有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=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0160" y="5856120"/>
            <a:ext cx="9909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堆有：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8=36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（个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86120" y="3581280"/>
            <a:ext cx="25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7160" y="3581280"/>
            <a:ext cx="32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30120" y="4394160"/>
            <a:ext cx="40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=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08600" y="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、用字母表示相关图形的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17200" y="65754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小组讨论，派代表回答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7%9B%B8%E6%9C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KID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7%9B%B8%E6%9C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3320" y="3368520"/>
            <a:ext cx="34527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探索规律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78400" y="2527200"/>
            <a:ext cx="5959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数与数之间的规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95680" y="4275000"/>
            <a:ext cx="4764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图形中的规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666880"/>
            <a:ext cx="470160" cy="2400480"/>
          </a:xfrm>
          <a:custGeom>
            <a:avLst/>
            <a:gdLst>
              <a:gd name="textAreaLeft" fmla="*/ 300600 w 470160"/>
              <a:gd name="textAreaRight" fmla="*/ 470520 w 470160"/>
              <a:gd name="textAreaTop" fmla="*/ 62280 h 2400480"/>
              <a:gd name="textAreaBottom" fmla="*/ 2338200 h 240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-270000" y="-554040"/>
            <a:ext cx="9731520" cy="72961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9144000" y="7112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8" name="WordArt 2" descr=""/>
          <p:cNvPicPr/>
          <p:nvPr/>
        </p:nvPicPr>
        <p:blipFill>
          <a:blip r:embed="rId3"/>
          <a:stretch/>
        </p:blipFill>
        <p:spPr>
          <a:xfrm>
            <a:off x="1104840" y="596880"/>
            <a:ext cx="7096320" cy="45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80.0)">
                                      <p:cBhvr>
                                        <p:cTn id="284" dur="217085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10442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,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项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)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,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项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＿＿＿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项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3132000" y="5013360"/>
            <a:ext cx="2087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4"/>
          <p:cNvGraphicFramePr/>
          <p:nvPr/>
        </p:nvGraphicFramePr>
        <p:xfrm>
          <a:off x="6372360" y="2708280"/>
          <a:ext cx="103644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2708280"/>
                    <a:ext cx="10364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15"/>
          <p:cNvGraphicFramePr/>
          <p:nvPr/>
        </p:nvGraphicFramePr>
        <p:xfrm>
          <a:off x="3492360" y="2637000"/>
          <a:ext cx="484200" cy="4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2637000"/>
                    <a:ext cx="4842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17"/>
          <p:cNvGraphicFramePr/>
          <p:nvPr/>
        </p:nvGraphicFramePr>
        <p:xfrm>
          <a:off x="3419640" y="3789360"/>
          <a:ext cx="51732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9640" y="3789360"/>
                    <a:ext cx="5173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18"/>
          <p:cNvGraphicFramePr/>
          <p:nvPr/>
        </p:nvGraphicFramePr>
        <p:xfrm>
          <a:off x="6516720" y="3789360"/>
          <a:ext cx="53496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3789360"/>
                    <a:ext cx="5349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643280" y="5013360"/>
            <a:ext cx="10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6×7=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2360" y="5589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n(n+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1440" y="1268280"/>
            <a:ext cx="91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观察以下按某种规律排列的数列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横线上填上适当的数（其中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≥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4600" y="3906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、用字母表示简单的数字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05280" y="6099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独立完成，同桌互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412640"/>
            <a:ext cx="842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观察、下面的单项式：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，       ，           ，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······</a:t>
            </a:r>
            <a:br>
              <a:rPr sz="2900"/>
            </a:b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4360" y="1486080"/>
          <a:ext cx="95400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6080"/>
                    <a:ext cx="954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" name=""/>
          <p:cNvGrpSpPr/>
          <p:nvPr/>
        </p:nvGrpSpPr>
        <p:grpSpPr>
          <a:xfrm>
            <a:off x="2195640" y="1173240"/>
            <a:ext cx="3097080" cy="982440"/>
            <a:chOff x="2195640" y="1173240"/>
            <a:chExt cx="3097080" cy="982440"/>
          </a:xfrm>
        </p:grpSpPr>
        <p:graphicFrame>
          <p:nvGraphicFramePr>
            <p:cNvPr id="70" name=""/>
            <p:cNvGraphicFramePr/>
            <p:nvPr/>
          </p:nvGraphicFramePr>
          <p:xfrm>
            <a:off x="2195640" y="1218960"/>
            <a:ext cx="792360" cy="90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95640" y="1218960"/>
                      <a:ext cx="792360" cy="90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3132000" y="1218960"/>
            <a:ext cx="1258560" cy="936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32000" y="1218960"/>
                      <a:ext cx="1258560" cy="93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4428360" y="1173240"/>
            <a:ext cx="864360" cy="982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428360" y="1173240"/>
                      <a:ext cx="864360" cy="98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3"/>
          <p:cNvSpPr/>
          <p:nvPr/>
        </p:nvSpPr>
        <p:spPr>
          <a:xfrm>
            <a:off x="468360" y="2133720"/>
            <a:ext cx="89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根据你发现的规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个式子是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····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个式子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84560" y="3578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203640" y="2565360"/>
                <a:ext cx="6951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p>
                          <m:e/>
                          <m:sup>
                            <m:r>
                              <m:t xml:space="preserve">8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80" name=""/>
          <p:cNvGraphicFramePr/>
          <p:nvPr/>
        </p:nvGraphicFramePr>
        <p:xfrm>
          <a:off x="2771640" y="3645000"/>
          <a:ext cx="4537080" cy="179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71640" y="3645000"/>
                    <a:ext cx="45370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700360" y="5516640"/>
                <a:ext cx="55436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也可写为：（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）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1472400" y="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、用字母表示简单的数字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66760" y="1413000"/>
            <a:ext cx="8877240" cy="2041560"/>
            <a:chOff x="266760" y="1413000"/>
            <a:chExt cx="8877240" cy="2041560"/>
          </a:xfrm>
        </p:grpSpPr>
        <p:sp>
          <p:nvSpPr>
            <p:cNvPr id="86" name=""/>
            <p:cNvSpPr/>
            <p:nvPr/>
          </p:nvSpPr>
          <p:spPr>
            <a:xfrm>
              <a:off x="266760" y="1714680"/>
              <a:ext cx="8877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）                          </a:t>
              </a:r>
              <a:r>
                <a:rPr b="1" lang="zh-CN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	</a:t>
              </a:r>
              <a:r>
                <a:rPr b="1" lang="zh-CN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·····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第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个式子是</a:t>
              </a: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	</a:t>
              </a: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	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077840" y="1413000"/>
                  <a:ext cx="3263760" cy="121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788000" y="1268280"/>
                <a:ext cx="10778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9" name=""/>
          <p:cNvGraphicFramePr/>
          <p:nvPr/>
        </p:nvGraphicFramePr>
        <p:xfrm>
          <a:off x="2987640" y="2637000"/>
          <a:ext cx="5688000" cy="25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637000"/>
                    <a:ext cx="568800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987640" y="5229360"/>
                <a:ext cx="5832360" cy="15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也可写为：（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）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472400" y="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、用字母表示简单的数字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6120" y="90792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独立完成，派代表回答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1268280"/>
            <a:ext cx="9144000" cy="5395680"/>
            <a:chOff x="0" y="1268280"/>
            <a:chExt cx="9144000" cy="5395680"/>
          </a:xfrm>
        </p:grpSpPr>
        <p:sp>
          <p:nvSpPr>
            <p:cNvPr id="96" name=""/>
            <p:cNvSpPr/>
            <p:nvPr/>
          </p:nvSpPr>
          <p:spPr>
            <a:xfrm>
              <a:off x="0" y="1268280"/>
              <a:ext cx="8991720" cy="53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6)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若“！”是一种运算符号，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１！＝１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２！＝２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１，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３！＝３ 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 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２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１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４！＝４ 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 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３ 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 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２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× 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１，</a:t>
              </a:r>
              <a:r>
                <a:rPr b="1" lang="zh-CN" sz="4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　　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则计算：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　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　　　　　＝　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2050920" y="4653000"/>
                  <a:ext cx="3048120" cy="16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!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>
              <a:off x="5715000" y="609264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472400" y="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、用字母表示简单的数字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67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67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268280"/>
            <a:ext cx="83822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观察下列式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 -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你将猜想到的规律用自然数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≥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表示出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16000" y="2060640"/>
          <a:ext cx="3333600" cy="22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333360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340440" y="3906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二、用字母表示相关等式的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340000" y="5084640"/>
                <a:ext cx="379872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7"/>
          <p:cNvGraphicFramePr/>
          <p:nvPr/>
        </p:nvGraphicFramePr>
        <p:xfrm>
          <a:off x="2987640" y="1628640"/>
          <a:ext cx="252108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628640"/>
                    <a:ext cx="25210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8"/>
          <p:cNvGraphicFramePr/>
          <p:nvPr/>
        </p:nvGraphicFramePr>
        <p:xfrm>
          <a:off x="2843280" y="2492280"/>
          <a:ext cx="298764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2492280"/>
                    <a:ext cx="29876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9"/>
          <p:cNvGraphicFramePr/>
          <p:nvPr/>
        </p:nvGraphicFramePr>
        <p:xfrm>
          <a:off x="2843280" y="3429000"/>
          <a:ext cx="259236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3280" y="3429000"/>
                    <a:ext cx="25923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0"/>
          <p:cNvGraphicFramePr/>
          <p:nvPr/>
        </p:nvGraphicFramePr>
        <p:xfrm>
          <a:off x="2843280" y="4221000"/>
          <a:ext cx="3095640" cy="69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4221000"/>
                    <a:ext cx="309564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3"/>
          <p:cNvGraphicFramePr/>
          <p:nvPr/>
        </p:nvGraphicFramePr>
        <p:xfrm>
          <a:off x="2843280" y="5013360"/>
          <a:ext cx="3384360" cy="722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6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43280" y="5013360"/>
                    <a:ext cx="33843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6"/>
          <p:cNvGraphicFramePr/>
          <p:nvPr/>
        </p:nvGraphicFramePr>
        <p:xfrm>
          <a:off x="971640" y="5877000"/>
          <a:ext cx="7056360" cy="755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71640" y="5877000"/>
                    <a:ext cx="70563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-73080" y="765000"/>
            <a:ext cx="92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观察下列各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用含字母的式子表示你所发现的规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40440" y="3906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二、用字母表示相关等式的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13840" y="19940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上黑板板演过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3"/>
          <p:cNvSpPr/>
          <p:nvPr/>
        </p:nvSpPr>
        <p:spPr>
          <a:xfrm>
            <a:off x="250920" y="1413000"/>
            <a:ext cx="8893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练习：观察下列等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9-1=8 , 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6-4=12,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5-9=16,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6-16=20,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些等式反映自然数间的某种规律，设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(n≥1)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表示自然数，用关于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的等式表示这个规律为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0440" y="3906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二、用字母表示相关等式的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492360" y="5734080"/>
                <a:ext cx="4148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6627600" y="134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小组讨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533520"/>
            <a:ext cx="8610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计算并观察下列每组算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已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5×25=6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4×26=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从以上的过程中，你发现了什么规律，请用代数式把这个规律表示出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62120" y="1771560"/>
                <a:ext cx="152388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×</m:t>
                            </m:r>
                            <m:r>
                              <m:t xml:space="preserve">8</m:t>
                            </m:r>
                            <m:r>
                              <m:t xml:space="preserve">=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124080" y="1781280"/>
                <a:ext cx="144792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  <m:r>
                              <m:t xml:space="preserve">=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486400" y="1851120"/>
                <a:ext cx="175248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=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340440" y="3906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二、用字母表示相关等式的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1T00:20:45Z</dcterms:created>
  <dc:creator>User</dc:creator>
  <dc:description/>
  <dc:language>en-US</dc:language>
  <cp:lastModifiedBy>User</cp:lastModifiedBy>
  <dcterms:modified xsi:type="dcterms:W3CDTF">2015-10-22T02:29:53Z</dcterms:modified>
  <cp:revision>10</cp:revision>
  <dc:subject/>
  <dc:title>幻灯片 1</dc:title>
</cp:coreProperties>
</file>